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.png" ContentType="image/png"/>
  <Override PartName="/ppt/media/image33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5FC-4BFA-4BD0-AEEB-03AAB0A8B4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8A9-A731-4EB4-B4F5-B081AE2802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2018-60EF-4BD7-A0D9-25CE658E3B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AD9-6171-44BD-83AD-8235560102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D02F-F255-4978-8D47-FF42380EAA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DE9C-FFCB-4F8A-A49A-10D6FEFBA4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C724-BACA-4DF6-92E4-1819588B43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6587-A6D2-4689-9B58-AFDDBC16C3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6C32-7E13-4754-AE1E-C0E87324E5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D10-6F93-46B7-9962-B3DD5DE149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F05-8C9F-4F4A-BF4B-F59E269599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D49-246F-41D1-9095-BC6B7C0D4E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23A7-8051-471E-B983-3FCCA99854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973E-96A6-429C-9644-A34EA3F50C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751A-0256-435C-8918-E9EDAE9C28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F90-EB10-4CD0-8E78-494B4C523C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EAD-98C4-4D70-BCDF-CFBCA4EC0E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9A2-9CB5-4F3F-B293-28066792F5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0DAF-4688-4BB8-9894-55BADBF101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0D9-E7D5-4104-A41F-1B37C30F07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F73-D54C-4639-A0DE-1A482F4DAF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038B-5886-496A-82B6-2503DA4F6D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AD27-4ABE-4794-B5C6-69583734BC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07C-A131-4632-B52E-902B6B3EB3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DE7-FA22-4D64-9F6B-2F7CDB3590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A31-1ED1-417F-969C-0888599D4C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279D-696A-4980-8FE4-3D45195CCC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E13F-46C7-4153-B520-0AB1D9D9AF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DC85-25BB-4F88-B4B6-3C3E9E5B85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6D21-99E8-40CF-B31C-555463E460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0BE7-F88C-4C3A-BC2A-91DF3120F3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D22-E4D3-4BE7-9EC5-AF978C9F40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57F7-CFE6-4615-8611-891ADF0746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20DB-6756-4E02-A665-88E2CF0996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DD-E78C-4E1D-A707-C2195E16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4E0-BEDD-458E-936A-1E9C9A72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D3D-3013-4656-BE56-0EBDAD84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577-12DB-47C0-91F1-3EFCC30B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494-79A9-475C-A7CF-F66A9E6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20D-E3DE-4E0C-8A4B-3D09F43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E5C-2FE4-474A-8345-9329B629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2A4-D7E4-47A1-B183-CB1F9EA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A37-671E-49C4-A88E-44FA893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EF3-8F43-4E4A-AF3F-2708D57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2E7-B9B0-4CF7-BD8E-96D2D78E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EEC-6402-4617-AFC8-B330412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1C08-5B4A-441C-9C15-3D2ECBB7BEA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 Black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ТЮГ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HMBSA-02103"/>
          <p:cNvPicPr/>
          <p:nvPr/>
        </p:nvPicPr>
        <p:blipFill>
          <a:blip r:embed="rId2"/>
          <a:stretch/>
        </p:blipFill>
        <p:spPr>
          <a:xfrm>
            <a:off x="2438280" y="1523880"/>
            <a:ext cx="46720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ДИЛЬНАЯ ДО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00803_1073_7399_vnvv"/>
          <p:cNvPicPr/>
          <p:nvPr/>
        </p:nvPicPr>
        <p:blipFill>
          <a:blip r:embed="rId2"/>
          <a:stretch/>
        </p:blipFill>
        <p:spPr>
          <a:xfrm>
            <a:off x="1523880" y="1981080"/>
            <a:ext cx="62499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64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7_5151_vnvv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501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7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КАТУ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00803_1052_7923_vuvv"/>
          <p:cNvPicPr/>
          <p:nvPr/>
        </p:nvPicPr>
        <p:blipFill>
          <a:blip r:embed="rId2"/>
          <a:stretch/>
        </p:blipFill>
        <p:spPr>
          <a:xfrm>
            <a:off x="2057400" y="1676520"/>
            <a:ext cx="512928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hhca007j"/>
          <p:cNvPicPr/>
          <p:nvPr/>
        </p:nvPicPr>
        <p:blipFill>
          <a:blip r:embed="rId1"/>
          <a:srcRect l="13769" t="7678" r="0" b="0"/>
          <a:stretch/>
        </p:blipFill>
        <p:spPr>
          <a:xfrm>
            <a:off x="1600200" y="1219320"/>
            <a:ext cx="4794120" cy="51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6" descr="000803_1053_0383_vuvv"/>
          <p:cNvPicPr/>
          <p:nvPr/>
        </p:nvPicPr>
        <p:blipFill>
          <a:blip r:embed="rId1"/>
          <a:stretch/>
        </p:blipFill>
        <p:spPr>
          <a:xfrm>
            <a:off x="1371600" y="1523880"/>
            <a:ext cx="6221520" cy="46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6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ТИЛЯТ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SHMSWA-021694"/>
          <p:cNvPicPr/>
          <p:nvPr/>
        </p:nvPicPr>
        <p:blipFill>
          <a:blip r:embed="rId1"/>
          <a:stretch/>
        </p:blipFill>
        <p:spPr>
          <a:xfrm>
            <a:off x="2895480" y="1523880"/>
            <a:ext cx="4570560" cy="502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ВЕТ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liberty_lamp"/>
          <p:cNvPicPr/>
          <p:nvPr/>
        </p:nvPicPr>
        <p:blipFill>
          <a:blip r:embed="rId1"/>
          <a:stretch/>
        </p:blipFill>
        <p:spPr>
          <a:xfrm>
            <a:off x="3124080" y="1676520"/>
            <a:ext cx="3232440" cy="448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НИЖНАЯ ПО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52_7902_vuvv"/>
          <p:cNvPicPr/>
          <p:nvPr/>
        </p:nvPicPr>
        <p:blipFill>
          <a:blip r:embed="rId1"/>
          <a:stretch/>
        </p:blipFill>
        <p:spPr>
          <a:xfrm>
            <a:off x="635040" y="2286000"/>
            <a:ext cx="8508960" cy="367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З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67_5154_vnvv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43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2296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5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ЛЮЧИ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7" descr="keyring"/>
          <p:cNvPicPr/>
          <p:nvPr/>
        </p:nvPicPr>
        <p:blipFill>
          <a:blip r:embed="rId1"/>
          <a:stretch/>
        </p:blipFill>
        <p:spPr>
          <a:xfrm>
            <a:off x="2438280" y="2286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ЕРКА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SHMSWA-021605"/>
          <p:cNvPicPr/>
          <p:nvPr/>
        </p:nvPicPr>
        <p:blipFill>
          <a:blip r:embed="rId1"/>
          <a:srcRect l="0" t="0" r="0" b="44170"/>
          <a:stretch/>
        </p:blipFill>
        <p:spPr>
          <a:xfrm>
            <a:off x="2971800" y="1523880"/>
            <a:ext cx="381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6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СВЕЧ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000803_1052_1470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424320" cy="51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7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2209680" y="1295280"/>
            <a:ext cx="4572000" cy="5181840"/>
          </a:xfrm>
          <a:prstGeom prst="bevel">
            <a:avLst>
              <a:gd name="adj" fmla="val 71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13" descr="hbsobta-07350"/>
          <p:cNvPicPr/>
          <p:nvPr/>
        </p:nvPicPr>
        <p:blipFill>
          <a:blip r:embed="rId2"/>
          <a:stretch/>
        </p:blipFill>
        <p:spPr>
          <a:xfrm>
            <a:off x="2514600" y="1600200"/>
            <a:ext cx="394812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6" descr="000803_1067_6209_vnvv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hhbo030j"/>
          <p:cNvPicPr/>
          <p:nvPr/>
        </p:nvPicPr>
        <p:blipFill>
          <a:blip r:embed="rId1"/>
          <a:stretch/>
        </p:blipFill>
        <p:spPr>
          <a:xfrm>
            <a:off x="2133720" y="1843200"/>
            <a:ext cx="473688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ША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hsi049j"/>
          <p:cNvPicPr/>
          <p:nvPr/>
        </p:nvPicPr>
        <p:blipFill>
          <a:blip r:embed="rId1"/>
          <a:stretch/>
        </p:blipFill>
        <p:spPr>
          <a:xfrm>
            <a:off x="2362320" y="1981080"/>
            <a:ext cx="4925880" cy="32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7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000803_1079_7287_vuvv"/>
          <p:cNvPicPr/>
          <p:nvPr/>
        </p:nvPicPr>
        <p:blipFill>
          <a:blip r:embed="rId1"/>
          <a:stretch/>
        </p:blipFill>
        <p:spPr>
          <a:xfrm>
            <a:off x="1828800" y="1600200"/>
            <a:ext cx="5918040" cy="459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СЧЕ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5" descr="000803_1054_6236_vnvv"/>
          <p:cNvPicPr/>
          <p:nvPr/>
        </p:nvPicPr>
        <p:blipFill>
          <a:blip r:embed="rId1"/>
          <a:stretch/>
        </p:blipFill>
        <p:spPr>
          <a:xfrm>
            <a:off x="3505320" y="1905120"/>
            <a:ext cx="212868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84582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НАТНОЕ РАСТЕ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geranium"/>
          <p:cNvPicPr/>
          <p:nvPr/>
        </p:nvPicPr>
        <p:blipFill>
          <a:blip r:embed="rId1"/>
          <a:stretch/>
        </p:blipFill>
        <p:spPr>
          <a:xfrm>
            <a:off x="2286000" y="1371600"/>
            <a:ext cx="4525920" cy="502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7631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АМПОЧ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SHMIDA-031599"/>
          <p:cNvPicPr/>
          <p:nvPr/>
        </p:nvPicPr>
        <p:blipFill>
          <a:blip r:embed="rId1"/>
          <a:stretch/>
        </p:blipFill>
        <p:spPr>
          <a:xfrm>
            <a:off x="2438280" y="1905120"/>
            <a:ext cx="4260960" cy="401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85345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М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lock"/>
          <p:cNvPicPr/>
          <p:nvPr/>
        </p:nvPicPr>
        <p:blipFill>
          <a:blip r:embed="rId1"/>
          <a:stretch/>
        </p:blipFill>
        <p:spPr>
          <a:xfrm>
            <a:off x="2514600" y="1828800"/>
            <a:ext cx="439416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ЛЬКУЛЯТОР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010409_0714_1353_vuvv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8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6" descr="m2211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393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УШИЛКА ДЛЯ БЕЛЬ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SHMSWA-021591"/>
          <p:cNvPicPr/>
          <p:nvPr/>
        </p:nvPicPr>
        <p:blipFill>
          <a:blip r:embed="rId1"/>
          <a:stretch/>
        </p:blipFill>
        <p:spPr>
          <a:xfrm>
            <a:off x="2133720" y="2057400"/>
            <a:ext cx="5027400" cy="3703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RF452175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77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ВИЗ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0803_1057_5941_vnvv"/>
          <p:cNvPicPr/>
          <p:nvPr/>
        </p:nvPicPr>
        <p:blipFill>
          <a:blip r:embed="rId2"/>
          <a:stretch/>
        </p:blipFill>
        <p:spPr>
          <a:xfrm>
            <a:off x="2057400" y="1828800"/>
            <a:ext cx="5029200" cy="44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ЫЛЕС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vacuum"/>
          <p:cNvPicPr/>
          <p:nvPr/>
        </p:nvPicPr>
        <p:blipFill>
          <a:blip r:embed="rId1"/>
          <a:stretch/>
        </p:blipFill>
        <p:spPr>
          <a:xfrm>
            <a:off x="2971800" y="1295280"/>
            <a:ext cx="3429000" cy="517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phone_1"/>
          <p:cNvPicPr/>
          <p:nvPr/>
        </p:nvPicPr>
        <p:blipFill>
          <a:blip r:embed="rId1"/>
          <a:stretch/>
        </p:blipFill>
        <p:spPr>
          <a:xfrm>
            <a:off x="2362320" y="213372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7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" descr="000803_1057_5881_vnvv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УД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250041"/>
          <p:cNvPicPr/>
          <p:nvPr/>
        </p:nvPicPr>
        <p:blipFill>
          <a:blip r:embed="rId1"/>
          <a:stretch/>
        </p:blipFill>
        <p:spPr>
          <a:xfrm>
            <a:off x="2971800" y="1905120"/>
            <a:ext cx="3560760" cy="434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4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